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023F-C8C9-4E97-A942-67E51C5E4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E0AD-ED8F-4C9B-963D-0D5796765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D3F1-7A52-46C8-A5C3-F52BFE6F3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2FB1-563E-49D2-BF6D-DC9BEEEDD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F6B1-AB0E-4823-A374-811C4A2F9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FF6A-C6CE-43F6-AB4C-665CA81DC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0C16-E827-4C9B-BE22-251326A3C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EFD1-968C-4CD2-BD02-46BFD2958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F907-B1A2-46A7-9CB7-BE976CE3F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DDD4-A20B-444E-AA86-DAAFF82C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6FEB-03DF-4405-B8B3-25B36B80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B36E-55D8-449C-9148-A4F77F33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D4D1-35F3-49CB-985B-4AA8D1B49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наеста недеља наставе,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09 ТОКСИКОЛОГИЈА – КЛИНИЧКИ, ЕКОЛОШКИ И ЕКСПЕРИМЕНТАЛНИ АСПЕК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ф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лободан Јанков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fedra врсте биља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edra врсте биљака садр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 ефедрин или псеудоефедр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ви активни принципи изазивај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ксиоз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саниц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лпит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гитац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н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сихо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ипертензију која је посебно опас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иљке које садр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е агенсе са дејстрвом на никотинске рецепто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20004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el (Areca catechu) садр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арехолин, агонисту никотинских рецепт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Хепатотокси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е биљ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етви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тарско уље из листова биљака Mentha pulegium 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твица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рска нана) и Hedeoma pulegioides се злоупотребљава као абортифацијенс и за регулацију менстру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улегон из овог уља се у јетри претвара у ментофуран, који тр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резерве глутатиона и делује токс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о н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лије јет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 изазвати ДИК и кому са конвулзиј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овање се л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ацетилцистеи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иролизидински алкалоид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лазе се у биљкама Symphytum officinale, Senecio spp., Heliotropium europaeum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т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јетри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табол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у пироле, који делују као алкилирају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аген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азивају з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пљење венских синусоида јетре, цирозу и хепатомегал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к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 могу изазвати з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пљење плу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их капилара и плу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у хипертенз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Упозорењ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 многе биљне препарате се додају метали, који су врло токс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и, посебно у препарате Ајурведа медици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инески биљни препарати – сумњив квалитет, потенцијално су намерно контаминирани леков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иљке токси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е за бубрег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ристолох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киселина из биљке Aristolochia fangchi изазива реналну фиброзу после хрон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употребе, и пов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ну 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талост карцинома мокр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б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амф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амфор је екст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акт зимзелене биљке Cinnamomum camphora, из Кине и Јапана, садр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ж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терпене (монотерпенски кетон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Добро се апсорбује и продире у ЦН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Изазива муку, повра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ање, главобољу, агитацију и конвулзиј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од деце делује и хепатотокси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ористи се у средствима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против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мољац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yzygium aromatic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ље ове биљке садр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један фенол, еуген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угенол изазива трајну анестезију и анхидрозу после локалне приме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ње цигарета са овим уљем изазива инхибицију фарингеалног рефлек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азива после системске примене т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у депресију ЦНС-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Уље еукалипт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ље еукалиптуса садр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70% еукалиптола, моноцикл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ог терп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азива главобољу, депресију ЦНС-а са респираторном депресијом и повр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њ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п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ко 20% популације узима неки биљни препарат бар једном недељ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иска ц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ако се набавља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д утицаје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рекла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e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довољств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конвенционалном терапиј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матра се 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у биљни препарати бољи и безбедниј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ускатни ор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тарско уље из мускатног ораха (Myristica fragra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адр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миристиц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иристицин инхибира МАО и пов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ва ниво серотонина у мозг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азива црвенило лица, тахикардију, хипертензију, агитацију и измењен ментални стат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енице су уске, поспаност и кома после в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х до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ол у трбух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Етарско уље бора и терпент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бијају се дестилацијом борови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рпентин се користи као раствар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боје, а уље као дезинфицијен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ктивни принцип је алфа-пинен, монотерпенски угљоводоник који се апсорбује орално или инхалациј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купља се у масном ткиву и споро елимин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Етарско уље бора и терпент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н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ње терпентина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и да мокр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 мир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 на љуб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лавобоља, зам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ње вида, летаргија, к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спирација и зн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јнија инхалација доводе до акутног 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ња пл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Уље биљке Gaultheria procumbe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То је мири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љава, ниска биљка, која се локално користи за ле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ење реум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адр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и метилсалицилат, који има пријатан укус и мири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Брзо се апсорбује из дигестивног тракта, и у јетри претвара у салицилну киселин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Изазива синдром сли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ан тровању салицилатима: повра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ање, зујање у у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има, хиперпнеа и тахипнеа, знојењ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Те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о тровање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изазив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конвулзије, едем мозга, ком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ГЛИЦИРИЗ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глициризин је сапонин из биљк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ycyrrhiza glabra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(сладић), који инхибира ензим 11-хидроксистероид-дехидрогеназу, што конвертује кортизол у кортиз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ада се дуже узима сладић, расте ниво кортизола и развија се псеудохипералдостеронизам, са хипертензијом и хипокалемиј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Цијаногени гликози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цијаногени гликозиди се хидролизују, и ослобађају цијанводо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ма их у око 2500 биљних вр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јчешћи је амигдалин, који се налази у семенкама кајсија, брескви, крушки, јабука и шљи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Токсалбуми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јзначајнији токсалбумини су РИЦИН и АБР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ицин се налази у семенкама рицину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ицин има два пептида, А и Б, везана дисулфидним мос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 пептид се везује за гликолипиде и гликопротеине на површини ћелије, а затим долази до ендоцито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оксин затим иде кроз ендоплазматични ретикулум и Голџијев апарат, да би на крају био избачен у цитоплаз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оксин у цитоплазми инхибира 28С подјединицу 60С рибозома, и убија ћел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азива оштећење свих виталних органа – срца, јетре, бубре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брин се налази 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rus precatorius-u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 врстам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cum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Биљке са оксалном киселин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ксална киселина се налази у великом броју биљних врста, од којих су многе тра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бично је удружена са протеинским токси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дражује слузокоже и кож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лечење: испир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Дерматитис изазван биљка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стоје 4 врс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следица механичке повре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ритантни молекули који продиру кроз кож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лерг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отосензибилиз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тровни бршљан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ksodendron)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садржи смолу са урушиолом, која изазива контактни дерматит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соба мора претходно бити сензибилис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Тровање печурка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рсте активних принцип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тери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(испарљива) уљ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иритирају слузок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и делују на ЦН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мол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у м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вине алкохола, танола, естара, ресинола и ресена – иритирају гастроинтестинални тра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лкалоид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у хетероген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група алкалних, органских, азотних једиње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ликозид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адр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рни део (гликол) и не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рни де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сна уљ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у естри масних киселина са дугим ланцима и алкохола. Нису токс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(нпр. маслиново  уље)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Десет врста токсина се може наћи у печурка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рупа 1: ПЕЧУРКЕ СА ЦИКЛОПЕПТИД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рст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ani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. verna, A. virosa, A. phalloides)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leri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G. autumnalis, G. marginata, G. venenata)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pio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L. helveola, L. josserand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phalloides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садржи аматоксин (циклични октапептид), фалотоксин (циклични хептапептид) и виротоксин (циклични хептапепти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Фалотоксини,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од којих је фалоидин најзаступљенији, делују брзо, спречавају полимеризацију актина и ометају функционисање ћелијске мембране; пошто се слабо апсорбују, они изазивају пре свега гастроинтестиналне тегоб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ПЕЧУРКЕ СА ЦИКЛОПЕПТИДИ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алфа-аманитин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локира РНК полимеразу тип 2, што омета преписивање ДН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лфа-аманитин оштећује ћелије јетре и бубрега; долази до центролобуларне некро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лфа-аманитин подлеже ентерохепатичкој рециркулациј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ПЕЧУРКЕ СА ЦИКЛОПЕПТИДИ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линичка сли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фаза 1: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тежак гастроентеритис са воденом дијарејом, 5-24 часа после ингест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фаза 2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: пролазно побољшање, 12-36 часова после ингестије печура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фаза 3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: оштећење јетре и бубрега, смрт; два до шест дана после ингест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ечењ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активни угаљ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0.5 – 1 г/кг на 2-4 ча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еницилин Г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истискује аманитин са албумина, спречава улазак токсина у ћелије јетре и везивање за РНК полимеразу – 1.000.000 ИЈ/кг/дан и.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силимарин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(липофилни екстракт три флавонолигнана: силибинина /око 50%/, силихристина и силидианина) омета улазак аманитина у хепатоци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хемоперфуз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Група 2: ПЕЧУРКЕ СА ГИРОМИТРИН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о су печурк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yromitra esculenta, G. californica, G. brunnea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. inf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личе на моз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адрже токсин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гиромитрин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(н-метил-н-формил хидразон) који се распада на ацеталдехид и н-метил-н-формил хидраз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идразин реагује са пиридоксином (слично изониазиду) и омета синтезу ГАБА-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бог смањења инхибиције, јавља се пренадраженост централног нервног сист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Група 2: ПЕЧУРКЕ СА ГИРОМИТРИН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линичка сли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имптоми 5-10 часова после ингест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учнина, повраћање, пролив, бол у трбух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лавобоља, слабост и грчеви у мишић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тко делиријум и конвулз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Лечењ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ктивни угаљ: 1г/к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ензодиазепи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иридоксин 70 мг/кг и.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Група 3: ПЕЧУРКЕ СА МУСКАРИН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чланови род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tocybe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ocy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адрже мускарин, који не продире у ЦН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имптоми почињу 30 – 120 минута после ингест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радикардија, миоза, саливација, сузење, повраћање, пролив, бронхоспазам, бронхореја, умокрав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лечење: атропин 1-2 мг полако и.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Група 4: ПЕЧУРКЕ СА КОПРЕИН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ечурк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rinus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рсте су пзнате под називом “мастиљаве капице” јер се “сукњице” испод шешира печурке убрзо по брању аутодигестују и претварају у мастиљаву течн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коприн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(аминокиселина) и његови метаболити 1-аминоциклопропанол и циклопропанон хидрат инхибирају алдехидну дехидрогеназ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ко особа која је појела ове печурке у року од 72 сата унесе алкохол, после 1-2 сата долази до “дисулфирамске реакције”: тахикардија, црвенило, мучнина, повраћ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Група 5: ПЕЧУРКЕ СА ИБОТЕНИНОМ И МУСЦИМОЛ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ечурке из род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anita (A. muscaria, A. pantheri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јарко црвени шешир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ботенин је сличан глутамату, а мусцимол ГАБА-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сле 1-2 сата од ингестије, поспаност, халуцинације, дисфорија, делиријум, миоклонички покрети и конвулз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лечење: бензодиазепини за конвулз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Група 6: ПЕЧУРКЕ СА ПСИЛОЦИБИН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ечурке које садрже псилоцибин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ilocybe caerulescens, P. cubensis, Conocybe cyanopus, Panaeolus foenisecii, Gymnopilus spectabilis, Psathyrella foenisec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силоцибин и његов метаболит псилоцин стимулишу 5-НТ</a:t>
            </a:r>
            <a:r>
              <a:rPr b="0" lang="sr-C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рецепто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сле 1-ог сата од ингестије јављају се атаксија, хиперкинезије, визуелне илузије и халуцинације, мидријаза; симптоми досежу максимум после 4 с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Група 7: ПЕЧУРКЕ СА ГАСТРОИНТЕСТИНАЛНИМ ТОКСИН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елики број печурака садржи овакве токс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ве су мале, браон бо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гастроинтестиналне тегобе почињу 0.5 до 3 часа после ингест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докнада те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ве врсте токси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ости биљних препара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ректна – о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ње ткива дејством активног принци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директна – интеракције са лековима које пацијент ве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ћ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Група 8: ПЕЧУРКЕ КОЈЕ САДРЖЕ ОРЕЛАНИН И ОРЕЛ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о су печурке из род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tinari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реланин је хидроксилирани бипиридин који се на цитохрому активи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личан је параквату и диква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сле 24-36 сати од ингестије јављају се главобоља, дрхтавица, полидипсија, мучнина, повраћање, бол у лумбалном пределу и трбух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сле неколико дана до недеља настаје олигурична бубрежна инсуфицијенција, због интерстицијалног нефритиса и фибро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емодијали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Група 9: ПЕЧУРКЕ КОЈЕ САДРЖЕ АЛЕНИЧКИ НОРЛЕУЦ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о је печурк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anita smithiana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, која личи на јестиву печурку мацута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адржи два токсина, аленички норлеуцин и л-2-амино-4-пентиноичну кисели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сле 30 минута до 12 часова од ингестије долази до анорексије, мучнине, бола у трбуху и пролива, слабости и зној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сле 4-6 дана долази до акутне бубрежне инсуфицијен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лечење: активни угаљ, хемодијали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Група 10: ПЕЧУРКЕ КОЈЕ ИЗАЗИВАЈУ РАБДОМИОЛИЗ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ечурк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. equestre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зазива тешку рабдомиолизу после 24-72 сата од ингест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акође настаје акутни миокардитис са инсуфицијенциј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лечење: одржавати диурезу како би се спречила миоглобинурична бубрежна инсуфицијен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ардиоваскуларни отрови биљног порек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onitum divergens (Једи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конит – с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ни корен јед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конитин је алкалоид који отвара канале за 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у миокарду, пов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вај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снагу ср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не контракције, успоравај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реполаризацију и промов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превремену ексцитациј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азива коморске аритм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ан с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н су је кинески лек за ср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ну инсуфицијенцију, који изм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 осталог садр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и секрет паротидне и лојних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зда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бе краст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 Bufo bufo gargarizans или Bufo melanosti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парат садр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кардиотон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е гликозиде и халуциноген буфотен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Абсин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бсинт је алкохол који садр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екстракт биљке Artemisia absinthium 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лин). Активни принципи су алфа и бета тујо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 има смарагдно зелену бо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лфа тујон блокира рецепторе за габу – А тип. Изазива еуфорију, конфузију, визуелне халуцинације и делиријум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рон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употреба м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 изазвати психозу и конвулз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к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 се пов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ва стварање порфирина, па м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 настати стање сл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о порфириј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Антихолинерги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и отров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тропин и скополамин се налазе у многим биљк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ци тровања: мидријаза, пареза црева, ретенција урина, сува уста, црвенило лица, тахикардија, агит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4:25:08Z</dcterms:created>
  <dc:creator>user1</dc:creator>
  <dc:description/>
  <dc:language>en-US</dc:language>
  <cp:lastModifiedBy>Slobodan Jankovic</cp:lastModifiedBy>
  <dcterms:modified xsi:type="dcterms:W3CDTF">2013-01-27T12:02:09Z</dcterms:modified>
  <cp:revision>32</cp:revision>
  <dc:subject/>
  <dc:title>Slide 1</dc:title>
</cp:coreProperties>
</file>